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4B6EC0-F98D-4246-81B9-771B21A30B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73915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0" y="3895920"/>
            <a:ext cx="73915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82EFA7-5CFB-4181-B107-8C2418571D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78756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7A39E2-5E1A-498C-8285-5BAA50E552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499480" y="99036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998600" y="99036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0" y="389592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499480" y="389592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4998600" y="389592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EC0AB2-7D30-406A-9561-03BB24B49D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0" y="990360"/>
            <a:ext cx="739152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739152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73915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0" y="990360"/>
            <a:ext cx="739152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735B48-C49A-44DD-8FF3-FE80E12E92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78756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73915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73915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0" y="3895920"/>
            <a:ext cx="73915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78756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499480" y="99036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998600" y="99036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0" y="389592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499480" y="389592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4998600" y="389592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739152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DC41F-15E7-49A2-A932-363E6B1B72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541874-66CE-40A9-8CA9-9CFE602383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2F835F-F7FA-46A6-AFF0-DD48E44CB6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73915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A706E2-3704-4A9D-9E25-97D2928FDD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870FEE-0A32-4851-8CCC-7D722313A3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78756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802697-57F8-4379-89C8-A1A4158362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73915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8ABB87-ADF8-44C0-A753-2362259098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logo" descr=""/>
          <p:cNvPicPr/>
          <p:nvPr/>
        </p:nvPicPr>
        <p:blipFill>
          <a:blip r:embed="rId3"/>
          <a:stretch/>
        </p:blipFill>
        <p:spPr>
          <a:xfrm>
            <a:off x="7391520" y="0"/>
            <a:ext cx="1752480" cy="99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0" y="990360"/>
            <a:ext cx="739152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marL="285840" indent="-285840">
              <a:spcBef>
                <a:spcPts val="499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9360" indent="-262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7000" indent="-239760">
              <a:spcBef>
                <a:spcPts val="499"/>
              </a:spcBef>
              <a:buClr>
                <a:srgbClr val="002b5d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76520" indent="-239760">
              <a:spcBef>
                <a:spcPts val="499"/>
              </a:spcBef>
              <a:buClr>
                <a:srgbClr val="002b5d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39400">
              <a:spcBef>
                <a:spcPts val="499"/>
              </a:spcBef>
              <a:buClr>
                <a:srgbClr val="002b5d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155680" indent="-2394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155680" indent="-2394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2828880" y="2693880"/>
            <a:ext cx="41400" cy="3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1143000"/>
            <a:ext cx="7754760" cy="10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96840" y="1996920"/>
            <a:ext cx="8994600" cy="43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713040" y="3038400"/>
            <a:ext cx="148932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abab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1"/>
          </p:nvPr>
        </p:nvSpPr>
        <p:spPr>
          <a:xfrm>
            <a:off x="0" y="6552720"/>
            <a:ext cx="7391520" cy="3049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4266720" y="6552720"/>
            <a:ext cx="838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3600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fld id="{1EAE1A60-8B37-4A5A-8A6E-FC1B5BEBF059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040" y="2819520"/>
            <a:ext cx="563868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logo" descr=""/>
          <p:cNvPicPr/>
          <p:nvPr/>
        </p:nvPicPr>
        <p:blipFill>
          <a:blip r:embed="rId3"/>
          <a:stretch/>
        </p:blipFill>
        <p:spPr>
          <a:xfrm>
            <a:off x="5657760" y="1146240"/>
            <a:ext cx="3200400" cy="990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5994360" y="1143000"/>
            <a:ext cx="2819520" cy="502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124080" y="1143000"/>
            <a:ext cx="2819520" cy="502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54160" y="1143000"/>
            <a:ext cx="2819160" cy="502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4920" y="0"/>
            <a:ext cx="7391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Progress NE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216000" y="1346040"/>
          <a:ext cx="8458200" cy="70614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6000" y="1346040"/>
                    <a:ext cx="8458200" cy="706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6T10:16:27Z</dcterms:created>
  <dc:creator>MDamms</dc:creator>
  <dc:description/>
  <dc:language>en-US</dc:language>
  <cp:lastModifiedBy>Jürgen Schmitz</cp:lastModifiedBy>
  <cp:lastPrinted>2003-07-02T13:24:00Z</cp:lastPrinted>
  <dcterms:modified xsi:type="dcterms:W3CDTF">2003-10-07T09:47:54Z</dcterms:modified>
  <cp:revision>84</cp:revision>
  <dc:subject/>
  <dc:title>No Slide Title</dc:title>
</cp:coreProperties>
</file>